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991-03FE-4CAB-866D-5191A230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3EA-5188-44FF-9E26-FCB407F8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49D-F70C-42A5-AB03-0D705360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FA6-F9ED-4652-B7E4-B0BF04DE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A3D3-0F50-4EF1-A0EC-278EBA87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0EAE-F9D7-41CF-B4F0-6B472251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365A-F103-4B97-9AC5-BD67A78C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290-79B3-4138-8AE2-6A3EDAB1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7F0-CA19-4053-A74C-D91F1B27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C36F-3AB5-4EDF-92CC-529B1A6F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E222-671F-47E0-A2AA-61D034D6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8A1-4238-462F-A837-B5C9CFE9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455A-941D-48FD-A297-37640DDD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A156-2C78-484D-9106-436264E9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0E8E-11D7-41D9-99D0-07C1E0E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8929-0636-44D3-94D0-35AA4623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0B9C-DE73-4BB8-80C8-D32788D3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0B0-F6D9-4716-A18F-37914989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8B2-508A-4AAD-8147-BF9267A2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725-CE23-4136-8519-50D7177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F87-8702-4343-8CB6-184588C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D29-05AA-424F-923F-6BA2CC9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959-F3C1-49CD-9CBD-991296DA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4C2-CA40-4EF8-8837-337B625B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AD80-2AE6-47BD-AB68-9BE56F977D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E58-4350-41A7-8C72-B76EEBD3D8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684360" y="1484280"/>
            <a:ext cx="734508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ия вокруг на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7" descr="глобус"/>
          <p:cNvPicPr/>
          <p:nvPr/>
        </p:nvPicPr>
        <p:blipFill>
          <a:blip r:embed="rId1"/>
          <a:stretch/>
        </p:blipFill>
        <p:spPr>
          <a:xfrm>
            <a:off x="1476360" y="6922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8"/>
          <p:cNvSpPr/>
          <p:nvPr/>
        </p:nvSpPr>
        <p:spPr>
          <a:xfrm>
            <a:off x="3492360" y="4437000"/>
            <a:ext cx="5472360" cy="2089080"/>
          </a:xfrm>
          <a:prstGeom prst="cloudCallout">
            <a:avLst>
              <a:gd name="adj1" fmla="val 12893"/>
              <a:gd name="adj2" fmla="val -35560"/>
            </a:avLst>
          </a:prstGeom>
          <a:solidFill>
            <a:srgbClr val="79c1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ходе проекта в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0755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е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м образом геометрия возникла из практических задач землеме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спользуются формулы площади для решения математически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ешать задачи реальной действительности математическими методами, какие ошибки могут возникнуть при э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730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611280" y="4436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7308720" y="4941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ходе проекта в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136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чите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ознавать геометрические фигуры, различать их взаимное расположение, изображать геометрические фигуры, выполнять чертежи по условию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ьзоваться основными единицами площ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ять средние значения результатов измерений площ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тавлять результаты учебной деятельности с помощью средств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5"/>
          <a:stretch/>
        </p:blipFill>
        <p:spPr>
          <a:xfrm>
            <a:off x="900000" y="4437000"/>
            <a:ext cx="2484720" cy="21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6"/>
          <a:stretch/>
        </p:blipFill>
        <p:spPr>
          <a:xfrm>
            <a:off x="5219640" y="4508640"/>
            <a:ext cx="26654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32440" y="1699560"/>
            <a:ext cx="78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к измерить все вокруг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9578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4000" y="1492200"/>
            <a:ext cx="861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измерить площад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оотносятся периметр и площадь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рассчитать расход строительных материалов для ремон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1276560" cy="121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143240" y="3929040"/>
            <a:ext cx="3737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4360" y="179604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площад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вычисляется площадь прямоугольни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ие единицы измерения площад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прямоугольный параллелепипед, как вычислить площадь его поверхности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кубики"/>
          <p:cNvPicPr/>
          <p:nvPr/>
        </p:nvPicPr>
        <p:blipFill>
          <a:blip r:embed="rId1"/>
          <a:stretch/>
        </p:blipFill>
        <p:spPr>
          <a:xfrm>
            <a:off x="250920" y="476280"/>
            <a:ext cx="15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Целю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то, что бы научить переводить из одних единиц объема в другие, применять эти знания в реальной жизни.  Эти знания необходимы и в дальнейшем при решении различных текстовых задач как в математике, так и в геометрии, черчении, физ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364000" y="4807080"/>
            <a:ext cx="2953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следовательские групп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Теоретик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Землемеры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Бригада ремонтник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Теоретики»</a:t>
            </a:r>
            <a:br>
              <a:rPr sz="66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ак соотносятся площади и периметры фигу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помогательные вопросы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вязаны периметры и площади равных фигура? Какая фигура имеет наибольшую площадь при заданном периметр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6438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Землемеры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ак вычислить площадь сложн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помогательные вопросы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измерить площадь фигуры, стороны которой совпадает со сторонами квадратов? Как измерить площадь фигуры, стороны которой не совпадают со сторонами квадратов? Какие единицы измерения площади используются для измерения зем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уппа «Бригада ремонтник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ак рассчитать расход строительных материалов для ремо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спомогательные вопрос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размеры класса? Какие материалы необходимо для ремонта? Какие параметры необходимо знать для расчета? В каких единицах они измеряются? Сколько материала необходимо для ремонта пола, стен, потол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12:57Z</dcterms:created>
  <dc:creator>Admin</dc:creator>
  <dc:description/>
  <dc:language>en-US</dc:language>
  <cp:lastModifiedBy>26545</cp:lastModifiedBy>
  <dcterms:modified xsi:type="dcterms:W3CDTF">2010-05-17T09:35:44Z</dcterms:modified>
  <cp:revision>7</cp:revision>
  <dc:subject/>
  <dc:title>Слайд 1</dc:title>
</cp:coreProperties>
</file>